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3528-8379-4653-9832-F9DA78025D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F520-6C11-40E7-91DC-C576A98E8A04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A7839-F0A7-43B8-8216-459E6AA0B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0E25F-5317-4B4F-834C-FB8C32077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E3A2-02FA-48E6-96D0-1C6A3EB5A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F4B5E-5C35-4540-AB5E-F0A205A1D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2B4E5-9B91-47F3-9EA2-5937C337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66B62-456A-4154-AADA-91E8533E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30E81-69BE-4FB2-BEEE-6FDADC04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2B493-DAD9-4B59-BE5E-86C44551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A621F-C2DC-4E72-A3A5-2DB936FE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87A38-4020-45E7-B541-037351CD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2B20E-9998-440E-A21C-A1283C7F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F8454-AFEF-4710-93DE-09858AFCB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04EEA-0706-4408-8550-9857400F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EFF51-A17A-46AA-A754-AE38906D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3F8AC-3225-43F0-A564-B946D6FF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563B8-BEEB-40B6-B72F-12B79389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6DCD4-27EF-40FC-9A5E-F87FD135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8AD3B0-66D6-406D-AB65-D3BA4CD0B9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71C4DD-53CB-4B29-9A89-AF510112D2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54FA9-CB5F-4B7E-B756-C6E8956648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87F7E2-F6AD-4E97-8073-25C007B487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E3E2DC-7EFB-4BA4-92CE-FAF9BDD452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D8272-E6B1-46F2-97A6-222755DBA4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38D2A6-ACE4-4287-9B40-F527EA773C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9D8D81-6189-47E4-B899-48D40BB68B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DB7140-D022-42B2-A176-83A1B302F9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6BE953-4A09-455B-90DC-8CD9734A8C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84A73A-FD13-498A-91CF-EAFA08558C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BEC6BE-B4F8-4E47-A0AB-995EB02623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1FDB78-20A9-4812-8FF3-EC602E2ED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E6CEF-FBA5-4220-84D4-B1463C690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D9D78-C559-40CF-A9B1-2E89C449B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35AB-20A9-4BB2-B2C1-65BC5E6EC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159C9-543F-4A18-A467-74411DAC6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1005D-D229-44FF-A19C-616CFB36B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76C1F-402E-41EC-9AE9-B5434EB4E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F2BA361-5A90-484A-9420-97978394273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77206D0-2682-40D0-AEF7-65E454B82C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260208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8EC8-33E3-4528-BADB-6DF5A88E142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2" descr=""/>
          <p:cNvPicPr/>
          <p:nvPr/>
        </p:nvPicPr>
        <p:blipFill>
          <a:blip r:embed="rId2"/>
          <a:stretch/>
        </p:blipFill>
        <p:spPr>
          <a:xfrm>
            <a:off x="5508720" y="519120"/>
            <a:ext cx="3024000" cy="573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6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7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FA62B69A-224B-41D3-951A-D4E6922DDE5F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34D963D9-BD6F-4DF7-BA99-12258AA295E6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9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193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205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6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217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6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89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95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14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18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322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37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41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7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48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52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0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3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4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7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02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5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76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9-11-15T11:53:22Z</dcterms:modified>
  <cp:revision>370</cp:revision>
  <dc:subject/>
  <dc:title>No Slide Title</dc:title>
</cp:coreProperties>
</file>